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2A11-A44F-4290-8ED0-6DC5A5C02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D3F7-24FD-42EC-80E9-986D19D5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4A58-A33D-4D02-B1D5-525017F97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A1A0-D21A-4FF6-B384-E58061FE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AA60-89A8-4C26-B43C-02DC2487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E570-56C2-4143-BE11-7235259C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764D-0154-4D11-AF89-A4476E37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8601-945B-4732-9AB7-C3A5F731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FF6F-8302-4D4F-A59B-57B7C894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31A5-BBCE-4631-BF9D-46A9E372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CF33-9CCD-4F84-9D8C-79AA6EA4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355A-E708-4F01-931A-87533911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6494-6DD8-4974-893C-EE4AFA9A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B5ED-621D-4C67-8DC6-18791B76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5BF8-8B58-482F-A701-3CE52A65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9849-E2F4-4F72-B7D7-8D13C6306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6F1A-4E1E-4CA3-8D6F-D6CFB6FA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7917-EFB2-4546-AC58-85B45C51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F0D1-D5AE-48AF-9FF1-D33A4BBF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42E6-7B29-4385-AA70-6BF355B5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924C-776B-44BA-BEC3-204FAF37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79E8-1719-4E91-8B39-C7F4BE4C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8742-9700-4CA2-83F6-6B77E6E1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C715-5FA0-4867-94C9-321FC239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BBA4-F2E2-4427-8336-AD240D80568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82B8-0EA5-4733-A8BB-7047B24D999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blem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720" y="24379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can they gain enough money for the renovation of their kitch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are from India and they lack resourc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1</a:t>
            </a:r>
            <a:r>
              <a:rPr b="0" lang="en-US" sz="38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Century Skills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2743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blem Identification, Formulation, and Solu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lf-Dir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lu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2743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y need to provide a program for them to be able to monitor their expen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7T21:17:58Z</dcterms:created>
  <dc:creator>madrid</dc:creator>
  <dc:description/>
  <dc:language>en-US</dc:language>
  <cp:lastModifiedBy>madrid</cp:lastModifiedBy>
  <dcterms:modified xsi:type="dcterms:W3CDTF">2012-06-27T21:59:19Z</dcterms:modified>
  <cp:revision>2</cp:revision>
  <dc:subject/>
  <dc:title>Problem: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